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EBD-43C4-4D30-90D9-BAE11BFB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F93-56A0-4356-B693-FE0D1C76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3EA-D601-4B63-9478-BCB363F5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ECB-4770-44E3-B720-DC03FF4D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5142-4297-4C60-93CB-40D7F39E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674-9A08-43A9-9B92-367B1915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4CED-D551-4E6F-98C4-1FE6E27D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222D-9CA7-41A9-A290-3E284A71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CBFB-967C-4BB8-BD8A-185508E6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BA8-339A-4B8B-9C3D-61D47E66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9D85-33FD-464A-8915-EA4F53B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FDB-23BC-4557-8F8C-6306AEED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8984-D773-47BE-A521-CDC99002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F4DF-A76B-4B20-9805-E03A0C0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C24C-9042-409D-94DA-D8D7417F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9742-33B0-46CD-B9B2-4C209D18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D41-7CEB-4CE4-A1EE-130C0769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3A0-B5B3-4D92-9A0D-112544CE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8BE-F226-4D41-9EEF-E562E7E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B48-9B61-4CEF-9DB8-B8E0AE8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E8E-5F2B-4E46-A668-BB64E1E5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11F-9A7B-4E61-9AF4-965C152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0C1-B046-4624-BAD6-2A576F87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918-0DD0-405B-A87E-CC37B31F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6C84-C57F-44E2-AB1C-0EF7BB66DB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AD75-E90C-4A3F-B702-70121E5D2E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chs08.edublogs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chs08.edublogs.org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tdudrchs.blogspot.com/" TargetMode="External"/><Relationship Id="rId2" Type="http://schemas.openxmlformats.org/officeDocument/2006/relationships/hyperlink" Target="http://rchs08.edublogs.org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mazon.com/gp/reader/1412959721/ref=sib_dp_pt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52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ers of the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2438280"/>
            <a:ext cx="38102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 to new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 their personal skill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81024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1866960" cy="1847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42400" y="632448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ch classroom best matches these ski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we teach these skill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778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uthent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to a large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lf-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lf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Monitor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ulture of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ummarize the importance of self-direction for 21st century learn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o partner B a reason students need self –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with another reason students need self-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 of the roo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8954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what they are, but not how to use them in my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used them in my class, but would like more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 = Web 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updateable website where you can publish ins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is not just for reading anymore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Look!: 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http://rchs08.edublog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gram 3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34200" cy="4495680"/>
          </a:xfrm>
          <a:prstGeom prst="rect">
            <a:avLst/>
          </a:prstGeom>
          <a:ln w="0">
            <a:noFill/>
          </a:ln>
        </p:spPr>
      </p:pic>
      <p:sp>
        <p:nvSpPr>
          <p:cNvPr id="144" name="Oval 4"/>
          <p:cNvSpPr/>
          <p:nvPr/>
        </p:nvSpPr>
        <p:spPr>
          <a:xfrm>
            <a:off x="3962520" y="3886200"/>
            <a:ext cx="1752480" cy="1295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lobal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3720" y="525780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324480" y="5334120"/>
            <a:ext cx="11430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320040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5680" y="449568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81480" y="198108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it connect to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direc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 tool student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 about their learn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Assessment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uthentic product for a large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teacher regarding learning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Engagem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get input from people outside you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takes to push student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visit posts if part of a pre-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can interact with each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ing never finished…always opportunity for deeper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/Teach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look at some student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Civil Rights (2008-2009) Taught by:    L. Jackson &amp; T. Du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1 CL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EXPO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800240" y="3657600"/>
            <a:ext cx="380988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and Self-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Troy Dud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228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80988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iginal thing I wanted to do was make it a collaborative medium, a place where we [could] all meet and read and writ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veloper of the 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1371600" y="0"/>
            <a:ext cx="1203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I keep/chang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working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/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and commenting on other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 Featur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and easy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you when people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n’t have to keep checking for p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ntrol what gets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creen inappropriate/inaccurate p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draft posts and not publish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ink to other pages/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Uses for Blo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information/ Archive class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filing cabinet for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other students or people outside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and Arti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minutes of 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Blogs Sites (Great for Examp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blogs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g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Videos on Teacher Tube on how/why to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log si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http://tdudrchs.blogspot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hlinkClick r:id="rId2"/>
              </a:rPr>
              <a:t>http://rchs08.edublog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1150632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ogs, Wikis ,Podcasts and other powerful web tools for class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Will Richar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Blogs, Wikis, Podcasts, and Other Powerful Web Tools for Classroo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1308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 Wink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791320" y="2344680"/>
            <a:ext cx="2895480" cy="2238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581280" y="4502160"/>
            <a:ext cx="304812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38080" y="2362320"/>
            <a:ext cx="29718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fore you leav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someone and explain a valuable use of blogs in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artner needs to reply with a resource you can use to learn more about incorporating blogs into your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Forget Your Ev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y Dud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Canyo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lk Talk-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classrooms look/feel like when you were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classroom look/feel lik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rge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 the importance of self-direction for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blogs can be used as a tool in the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resources to learn how to implement blogs into my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just an expo…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9360" y="46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94352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gram 3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3420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3962520" y="3886200"/>
            <a:ext cx="1752480" cy="1295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lobal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5792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13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-Direc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22560" y="2395440"/>
            <a:ext cx="3184560" cy="446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6240" y="5791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ap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6920" y="2895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4280" y="40384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k E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8280" y="29718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029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f-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5792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913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-Direc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62560" y="2819520"/>
            <a:ext cx="2881440" cy="403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010280" y="22860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H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441520"/>
            <a:ext cx="6781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 Important components of motivation to lear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Moss/Brookh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lief in ability to suc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ively participating in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udging own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wn perceptions of success/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ers of the P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4343400" cy="3944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62720" y="2971800"/>
            <a:ext cx="281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kill Se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just needed to do one job really w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Informatio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31120" y="636120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ch classroom best matches these ski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0:12:05Z</dcterms:created>
  <dc:creator>Eagle Schools</dc:creator>
  <dc:description/>
  <dc:language>en-US</dc:language>
  <cp:lastModifiedBy>Eagle Schools</cp:lastModifiedBy>
  <dcterms:modified xsi:type="dcterms:W3CDTF">2010-08-20T14:17:46Z</dcterms:modified>
  <cp:revision>43</cp:revision>
  <dc:subject/>
  <dc:title>21CLEXPO</dc:title>
</cp:coreProperties>
</file>